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news.pravda.ru/" TargetMode="External"/><Relationship Id="rId2" Type="http://schemas.openxmlformats.org/officeDocument/2006/relationships/hyperlink" Target="http://nano-s.ucoz.ru/" TargetMode="External"/><Relationship Id="rId3" Type="http://schemas.openxmlformats.org/officeDocument/2006/relationships/hyperlink" Target="http://www.gamechat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"/>
          <p:cNvSpPr/>
          <p:nvPr/>
        </p:nvSpPr>
        <p:spPr>
          <a:xfrm>
            <a:off x="5591160" y="2716200"/>
            <a:ext cx="448956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ыполнили ученик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8 «а» класса СОШ №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лексеев М.И.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иронова П.О.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ровина К.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2"/>
          <p:cNvSpPr txBox="1"/>
          <p:nvPr/>
        </p:nvSpPr>
        <p:spPr>
          <a:xfrm>
            <a:off x="2160720" y="360360"/>
            <a:ext cx="5759280" cy="27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66">
                    <a:alpha val="30000"/>
                  </a:srgbClr>
                </a:solidFill>
                <a:effectLst>
                  <a:outerShdw dist="1440000" dir="10800000" blurRad="0" rotWithShape="0">
                    <a:srgbClr val="ccccff">
                      <a:alpha val="40000"/>
                    </a:srgbClr>
                  </a:outerShdw>
                </a:effectLst>
                <a:latin typeface="Times New Roman"/>
              </a:rPr>
              <a:t>Нанотехнологии: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66">
                  <a:alpha val="30000"/>
                </a:srgbClr>
              </a:solidFill>
              <a:effectLst>
                <a:outerShdw dist="1440000" dir="10800000" blurRad="0" rotWithShape="0">
                  <a:srgbClr val="ccccff">
                    <a:alpha val="4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260360" y="3780000"/>
            <a:ext cx="70754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еспечное будущее или опасн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079640" y="4500720"/>
            <a:ext cx="3779640" cy="27003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539640" y="1979640"/>
            <a:ext cx="9539280" cy="558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"/>
          <p:cNvSpPr/>
          <p:nvPr/>
        </p:nvSpPr>
        <p:spPr>
          <a:xfrm>
            <a:off x="1754280" y="374760"/>
            <a:ext cx="778644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акие выводы мы сдела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 ходе наше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сследова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720720" y="162720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ы пришли к выводу, что нанотехнологии при бесконтрольном и противозаконном использовании могут привести человечество к гибели, но если придерживаться соответствующих норм и заботиться о благе цивилизации, то мы на самом деле получим                                            безоблачное будущ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Используемые ресурсы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news.pravda.ru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nano-s.ucoz.ru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gamechat.ru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Цели и задачи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ть к каким отрицательным последствиям может привести развитие нанотехнолог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меры должны применить ученые и люди для того, чтобы предотвратить эти ужасные последств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Наше мне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1240" y="1698480"/>
            <a:ext cx="6639120" cy="5570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ы считаем, что развитие нанотехнологий когда-нибудь выйдет из-под контроля ученых или будет использовано в противозаконных целях и в итоге приведет к гибели человечест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7199280" y="900000"/>
            <a:ext cx="2700360" cy="27003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Что мы сделали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етили различные сайты Интерне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мотрели фантастические филь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фантазировали о нашем будущ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561600"/>
            <a:ext cx="860904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Какие опасности таит в себе развитие нанотехнологий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99120" cy="51530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 fontScale="99000"/>
          </a:bodyPr>
          <a:p>
            <a:pPr marL="427320" indent="-3204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ррористы и криминалитет создадут новые типы оружия для убийства на расстоянии, будут использовать новые вирусы и биологическое оруж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ицинские устройства могут положить начало «нанотехнологической наркомании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5219640" y="1994040"/>
            <a:ext cx="4500720" cy="52070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79520" y="456840"/>
            <a:ext cx="42004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асность токсического действия наноматериал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19640" y="32464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ночастичное загрязнение среды обит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менение биологической сути человека, его психологии и повед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360360" y="2879640"/>
            <a:ext cx="4140360" cy="3419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5219640" y="0"/>
            <a:ext cx="3959280" cy="32400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     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720720" y="1800000"/>
            <a:ext cx="429912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озданные нанороботы могут выйти из-под контроля ученых и начать плодиться до бесконечности, перерабатывая все молекулы Земли в себя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3"/>
          <p:cNvSpPr txBox="1"/>
          <p:nvPr/>
        </p:nvSpPr>
        <p:spPr>
          <a:xfrm>
            <a:off x="1440000" y="179280"/>
            <a:ext cx="5940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8199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>
                    <a:alpha val="30000"/>
                  </a:srgbClr>
                </a:solidFill>
                <a:effectLst>
                  <a:outerShdw dist="51166" dir="8082896" blurRad="0" rotWithShape="0">
                    <a:srgbClr val="99ccff"/>
                  </a:outerShdw>
                </a:effectLst>
                <a:latin typeface="Times New Roman"/>
              </a:rPr>
              <a:t>«Серая слизь»  </a:t>
            </a:r>
            <a:endParaRPr b="0" lang="en-US" sz="1800" spc="1" strike="noStrike">
              <a:ln w="0">
                <a:noFill/>
              </a:ln>
              <a:solidFill>
                <a:srgbClr val="000080">
                  <a:alpha val="30000"/>
                </a:srgbClr>
              </a:solidFill>
              <a:effectLst>
                <a:outerShdw dist="51166" dir="8082896" blurRad="0" rotWithShape="0">
                  <a:srgbClr val="99cc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5040360" y="3240000"/>
            <a:ext cx="36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2700360" y="1619280"/>
            <a:ext cx="53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240000" y="1598760"/>
            <a:ext cx="181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319640" y="360360"/>
            <a:ext cx="179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4859280" y="900000"/>
            <a:ext cx="3603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"/>
          <p:cNvPicPr/>
          <p:nvPr/>
        </p:nvPicPr>
        <p:blipFill>
          <a:blip r:embed="rId1"/>
          <a:stretch/>
        </p:blipFill>
        <p:spPr>
          <a:xfrm>
            <a:off x="5219640" y="2070000"/>
            <a:ext cx="4680000" cy="53103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741240" y="503280"/>
            <a:ext cx="86090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то должны делать ученые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тобы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едотвратить мировую катастроф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4319640" y="2879640"/>
            <a:ext cx="5759280" cy="4680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539640" y="2340000"/>
            <a:ext cx="953928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здавать институты регулирования нанотехнолог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рабатывать технические регламенты, позволяющие обезопасить работу с наноматериал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ировать качество произведенных нанопродук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хранять секретные объекты от преступ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пользовать нанотехнологии только в законных целя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741240" y="214632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ждому из нас необходимо стремиться сохранять  нашу планету и заботиться о ее процветании, и поэтому даже при создании новых технологий мы не должны забывать о моральных и этических норм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79280" y="900000"/>
            <a:ext cx="98488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Что можем сделать для этого м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5T09:34:27Z</dcterms:created>
  <dc:creator/>
  <dc:description/>
  <dc:language>en-US</dc:language>
  <cp:lastModifiedBy>Nabster</cp:lastModifiedBy>
  <dcterms:modified xsi:type="dcterms:W3CDTF">2010-06-03T18:56:32Z</dcterms:modified>
  <cp:revision>5</cp:revision>
  <dc:subject/>
  <dc:title>Слайд 1</dc:title>
</cp:coreProperties>
</file>